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278EB-AEC8-4B45-870E-F039C7253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06FD4-3BA1-4AC2-9CED-097BBF5A5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6A052-3282-4FE7-AE0B-363BD26B5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A3353-B427-4369-940A-DE9003DDE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19199-52D4-4DDD-A90D-02A5BB05F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198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10DED-606B-4F80-A648-CEABE1A38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86F62-B416-4299-8EC9-79D0CF8EC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2053E-617E-40F7-8BB1-0E3A466C9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CF640-BE31-4BF7-BEF3-92628E414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198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C1B17-544E-4C3B-A8E8-376974DE5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A0378-5424-47D4-8F29-DC62D2321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198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66A5D-9B86-402C-A287-E8BA62BD2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11023-3700-4CDF-86F1-409536E17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5A74C-0B5F-49F6-A37F-3253111F7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55EA3-ADD5-4DE6-88AB-928E987FB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C800D-5BD3-4B11-A5E5-783F4687F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A9FAC-302C-44CC-BC04-0F8D1CECD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87B02-EF63-41A9-892A-53E170EBA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30AA0-E8C7-43E7-B1B2-91380D62D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8250C-30E2-4570-A684-C761D977A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198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60FFF-017F-4D85-9B04-3477A8F5D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70673-276E-4FC5-91E6-2B72A9DE8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0BBD2-96C0-4822-A54B-9B2AB08F5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45CA8-E516-4D10-9DCC-535295640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ts val="4198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ts val="4198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lnSpc>
                <a:spcPts val="4198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72040" indent="-210240">
              <a:lnSpc>
                <a:spcPts val="4198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92520" indent="-210240">
              <a:lnSpc>
                <a:spcPts val="4198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92520" indent="-210240">
              <a:lnSpc>
                <a:spcPts val="4198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92520" indent="-210240">
              <a:lnSpc>
                <a:spcPts val="4198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33438-1921-4D09-BD09-4A7F34CF4AA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21266-1E2D-44ED-BDE2-CD1F3905B86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ts val="4198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ts val="36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1206360" y="4335480"/>
            <a:ext cx="7315200" cy="14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ts val="41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  <a:ea typeface="Times New Roman (Arabic)"/>
              </a:rPr>
              <a:t>3 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  <a:cs typeface="Times New Roman (Arabic)"/>
              </a:rPr>
              <a:t>مايو 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  <a:ea typeface="Times New Roman (Arabic)"/>
              </a:rPr>
              <a:t>20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070720" y="2741760"/>
            <a:ext cx="5423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9900"/>
                </a:solidFill>
                <a:latin typeface="Times New Roman"/>
                <a:cs typeface="Times New Roman"/>
              </a:rPr>
              <a:t>ب</a:t>
            </a:r>
            <a:r>
              <a:rPr b="0" lang="ar-SA" sz="3200" spc="-1" strike="noStrike">
                <a:solidFill>
                  <a:srgbClr val="ff9900"/>
                </a:solidFill>
                <a:latin typeface="Times New Roman"/>
                <a:cs typeface="Times New Roman"/>
              </a:rPr>
              <a:t>رنامج الأعداد لأمتحان المتوسط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9900"/>
                </a:solidFill>
                <a:latin typeface="Times New Roman"/>
                <a:cs typeface="Times New Roman"/>
              </a:rPr>
              <a:t>مادة المراجع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title"/>
          </p:nvPr>
        </p:nvSpPr>
        <p:spPr>
          <a:xfrm>
            <a:off x="1038240" y="407880"/>
            <a:ext cx="7315200" cy="19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9900"/>
                </a:solidFill>
                <a:latin typeface="Times New Roman"/>
                <a:cs typeface="Times New Roman"/>
              </a:rPr>
              <a:t>ج</a:t>
            </a:r>
            <a:r>
              <a:rPr b="0" lang="ar-SA" sz="1900" spc="-1" strike="noStrike">
                <a:solidFill>
                  <a:srgbClr val="ff9900"/>
                </a:solidFill>
                <a:latin typeface="Times New Roman"/>
                <a:cs typeface="Times New Roman"/>
              </a:rPr>
              <a:t>معية المحاسبيين والمراجعيين المصرية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solidFill>
            <a:srgbClr val="000080"/>
          </a:solidFill>
          <a:ln w="324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الأنشطة المرتبطة بالبيع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Boatblueoverlay" descr=""/>
          <p:cNvPicPr/>
          <p:nvPr/>
        </p:nvPicPr>
        <p:blipFill>
          <a:blip r:embed="rId1"/>
          <a:stretch/>
        </p:blipFill>
        <p:spPr>
          <a:xfrm>
            <a:off x="0" y="0"/>
            <a:ext cx="1371600" cy="11430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4" name=""/>
          <p:cNvSpPr/>
          <p:nvPr/>
        </p:nvSpPr>
        <p:spPr>
          <a:xfrm>
            <a:off x="7238880" y="650700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-44280" y="7589880"/>
            <a:ext cx="9144000" cy="4590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343400" y="2209680"/>
            <a:ext cx="3745080" cy="3988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حديد الحدود الأئتمان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505320" y="2819520"/>
            <a:ext cx="2906640" cy="3988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شح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819520" y="3470400"/>
            <a:ext cx="3124080" cy="5806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حرير فواتير المبيعات والأشعارات الدائن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4724280"/>
            <a:ext cx="3124440" cy="3988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رتجعا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523880" y="4019400"/>
            <a:ext cx="2819520" cy="3988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حسابات العملا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52280" y="5391000"/>
            <a:ext cx="2895840" cy="3988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ديون المعدوم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705720" y="1143000"/>
            <a:ext cx="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181480" y="1523880"/>
            <a:ext cx="3592800" cy="3988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طلبات البي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solidFill>
            <a:srgbClr val="000080"/>
          </a:solidFill>
          <a:ln w="324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الفصل بين الأختصاصات المتعارضة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Boatblueoverlay" descr=""/>
          <p:cNvPicPr/>
          <p:nvPr/>
        </p:nvPicPr>
        <p:blipFill>
          <a:blip r:embed="rId1"/>
          <a:stretch/>
        </p:blipFill>
        <p:spPr>
          <a:xfrm>
            <a:off x="0" y="0"/>
            <a:ext cx="1371600" cy="11430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66" name=""/>
          <p:cNvSpPr/>
          <p:nvPr/>
        </p:nvSpPr>
        <p:spPr>
          <a:xfrm>
            <a:off x="7238880" y="650700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-44280" y="7589880"/>
            <a:ext cx="9144000" cy="4590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733920" y="1523880"/>
            <a:ext cx="2297160" cy="3988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دارة الشح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066680" y="1523880"/>
            <a:ext cx="2068560" cy="3988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حرير فواتير البي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143000"/>
            <a:ext cx="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629400" y="1523880"/>
            <a:ext cx="2144880" cy="703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قبول طلبات العملا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477120" y="2430360"/>
            <a:ext cx="2112840" cy="3735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ستخدام مستندات مسلسلة لضمان تسجيل كل طلبات العملاء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راجعة حدود الأئتمان بواسطة ادارة الأئتمان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حديد سعر البيع والخصومات الخاصة بواسطة شخص مسئول فى ادارة البيع وليس فى ادارة الحسابات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886200" y="2438280"/>
            <a:ext cx="2112840" cy="29757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ستخدام مستندات خروج بضاعة اواذون شحن مسلسلة لكل البضائع التى يتم خروجها من المنشأ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تم ذلك عن طريق ادارة الشحن او بواسطة حارس البوابة وليس بواسطة عضو من ادارة الحسابات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143000" y="2514600"/>
            <a:ext cx="2112840" cy="41619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جود فواتير مسلسلة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ن يتم تحريرها بواسطة ادارة المبيعات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جود مراجعة للتأكد من أنه قد تم تحرير فواتير لكل البضائع المبينة بأذون الشحن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جود رقابة صارمة على اشعارات الخصم لضمان اصدارها بأعتماد مناسب مقابل اذون ارتجا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أجراءات الرقابة على المبيعات والعملاء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Boatblueoverlay" descr=""/>
          <p:cNvPicPr/>
          <p:nvPr/>
        </p:nvPicPr>
        <p:blipFill>
          <a:blip r:embed="rId1"/>
          <a:stretch/>
        </p:blipFill>
        <p:spPr>
          <a:xfrm>
            <a:off x="0" y="0"/>
            <a:ext cx="1371600" cy="114300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7238880" y="650700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-44280" y="2789280"/>
            <a:ext cx="1800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-44280" y="758988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095880" y="1143000"/>
            <a:ext cx="0" cy="571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124080" y="1143000"/>
            <a:ext cx="0" cy="571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0" y="17524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324480" y="1143000"/>
            <a:ext cx="199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طلبات العملا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1797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تحديد حدود ائتمان لكل عمي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78600" y="2222640"/>
            <a:ext cx="29890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راجعة طلبات العملاء مع حساباتهم والحصول على موافقة ادارة الأئتمان فى حالة التجاوز اوالعميل الجديد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78600" y="3228840"/>
            <a:ext cx="2989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 rtl="1"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ستخدام طلبات بيع مسلسلة لتسجيل طلبات العميل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5880" y="3838680"/>
            <a:ext cx="2989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 rtl="1"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عتماد كل طلبات البيع قبل شحن البضاعة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5880" y="4524480"/>
            <a:ext cx="2989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 rtl="1"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ستخدام طلبات البيع لأستخراج أذون شحن لخروج البضاع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19920" y="5286240"/>
            <a:ext cx="2989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 rtl="1"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عدم خروج أى بضاعة بدون اذن شحن معتمد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733920" y="1143000"/>
            <a:ext cx="115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شح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06800" y="1825560"/>
            <a:ext cx="29890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 algn="r" rtl="1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ان تكون اذون شحن البضاعة مسلسلة رقميا وان يحتفظ بسجل لها للمطابقة مع فواتير البيع وطلبات العملاء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106800" y="3044880"/>
            <a:ext cx="29890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أعتماد اذون شحن البضائع عند خروج البضائع وان يتم مراجعتها دوريا للتأكد من اكتمالها وان يتم استخراج فواتير لكل منهم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0" y="1143000"/>
            <a:ext cx="3124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حرير فواتير المبيعات والأشعارات الدائن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280" y="1905120"/>
            <a:ext cx="2989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عتماد فواتير البيع من الشخص المسئول ومراجعتها مع الطلب الأصلى المعتمد واذن الشحن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280" y="3124080"/>
            <a:ext cx="2989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أثبات كل الفواتير واشعارات الخصم فى سجلات يومية المبيعات واستاذ مساعد العملاء واستاذ مراقبة العملاء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52280" y="4267080"/>
            <a:ext cx="29894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راجعة الدقة الحسابية لفواتير البيع واشعارات الخصم بواسطة شخص مستقل عن معد الفواتير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52280" y="5181480"/>
            <a:ext cx="29894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ان تكون كل الفواتير واشعارات الخصم مسلسة رقميا, وان يتم مراجعة التسلسل بصفة منظمة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أجراءات الرقابة على المبيعات والعملاء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Boatblueoverlay" descr=""/>
          <p:cNvPicPr/>
          <p:nvPr/>
        </p:nvPicPr>
        <p:blipFill>
          <a:blip r:embed="rId1"/>
          <a:stretch/>
        </p:blipFill>
        <p:spPr>
          <a:xfrm>
            <a:off x="0" y="0"/>
            <a:ext cx="1371600" cy="114300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7238880" y="650700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-44280" y="2789280"/>
            <a:ext cx="1800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-44280" y="758988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019920" y="1143000"/>
            <a:ext cx="0" cy="571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200400" y="1143000"/>
            <a:ext cx="0" cy="571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0" y="17524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324480" y="1143000"/>
            <a:ext cx="199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طلبات العملا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1143000"/>
            <a:ext cx="115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شح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0" y="1143000"/>
            <a:ext cx="3124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حرير فواتير المبيعات والأشعارات الدائن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52280" y="1828800"/>
            <a:ext cx="29894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اعتماد اشعارات الخصم من شخص مشتقل عن اعمال الشحن او القيد فى دفاتر العملاء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52280" y="2743200"/>
            <a:ext cx="2989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الأحتفاظ بالفواتير الملغاة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52280" y="3200400"/>
            <a:ext cx="2989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إلغاء مستندات الشحن المتعلقة بأى فاتورة يتم الغائها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52280" y="3809880"/>
            <a:ext cx="29894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ان تعتمد الفواتير الملغاة او البضاعة المجانية من الشخص المسئول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52280" y="4724280"/>
            <a:ext cx="29894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ان يتم فصل الأنواع المختلفة من المبيعات وكذا ضريبة المبيعات فى كل فاتورة بيع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أجراءات الرقابة على المبيعات والعملاء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Boatblueoverlay" descr=""/>
          <p:cNvPicPr/>
          <p:nvPr/>
        </p:nvPicPr>
        <p:blipFill>
          <a:blip r:embed="rId1"/>
          <a:stretch/>
        </p:blipFill>
        <p:spPr>
          <a:xfrm>
            <a:off x="0" y="0"/>
            <a:ext cx="1371600" cy="11430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7238880" y="650700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-44280" y="2789280"/>
            <a:ext cx="1800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-44280" y="758988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172200" y="1143000"/>
            <a:ext cx="0" cy="571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124080" y="1143000"/>
            <a:ext cx="0" cy="571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0" y="17524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324480" y="1143000"/>
            <a:ext cx="199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رتجعا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733920" y="1143000"/>
            <a:ext cx="115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عملا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0" y="1143000"/>
            <a:ext cx="312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ديون المعدوم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35000" y="1828800"/>
            <a:ext cx="2989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ان يتم اعتماد اعدام الديون المعدومة كتابة وان تتم التسوية فى استاذ حساب العملاء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52280" y="2743200"/>
            <a:ext cx="298944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اعتماد اقامة اى دعوى قضائية او اعدام احد الديون بواسطة شخص مسئول وان يكون مستقلا عن عمليات استلام النقدية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019920" y="1828800"/>
            <a:ext cx="2989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فحص البضائع التى يتم اعادتها من العملاء وتحديد العيوب الواضحة بها عند استلامها واثباتها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078600" y="2743200"/>
            <a:ext cx="2989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اعداد اشعار خصم لجميع البضائع التى يتم اعادتها من العملاء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124080" y="1828800"/>
            <a:ext cx="29894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استكمال حساب مراقبة استاذ العملاء بصفة منتظمة وان يتم مراجعته مع رصيد كل نوع من ارصدة استاذ العملاء المساعد بواسطة شخص مستقل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124080" y="4572000"/>
            <a:ext cx="29894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متابعة الديون المتأخرة فى السداد وإعداد قائمة بأعمار الديون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124080" y="3276720"/>
            <a:ext cx="2989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ان تكون حسابات العملاء مستقلة عن اعمال الشحن او استلام النقدية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124080" y="3914640"/>
            <a:ext cx="2989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ارسال كشوف حساب الى العملاء بصفة دورية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124080" y="5257800"/>
            <a:ext cx="2989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ارسال خطابات للعملاء لتحصيل الديون المتأخرة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اختبارات  الرقابة على المبيعات والعملاء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5" name="Boatblueoverlay" descr=""/>
          <p:cNvPicPr/>
          <p:nvPr/>
        </p:nvPicPr>
        <p:blipFill>
          <a:blip r:embed="rId1"/>
          <a:stretch/>
        </p:blipFill>
        <p:spPr>
          <a:xfrm>
            <a:off x="0" y="0"/>
            <a:ext cx="1371600" cy="114300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7238880" y="650700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-44280" y="2789280"/>
            <a:ext cx="1800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-44280" y="758988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8001000" y="1514520"/>
            <a:ext cx="838080" cy="31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28600" y="1447920"/>
            <a:ext cx="754380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جراء اختبار للتاكد من تسلسل الفواتير واشعارات الخصم واذون الشحن وطلبات العملاء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4920" y="2209680"/>
            <a:ext cx="746748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تحقق من وجود اعتماد مناسب والتأكد من وجود التوقيع المناسب والتحقق من انه يتم تطبيق الرقابة مثل مراجعة دقة التسعير وحدود الأئتمان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8001000" y="2428920"/>
            <a:ext cx="838080" cy="31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04920" y="3124080"/>
            <a:ext cx="746748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بحث عن أدلة لمراجعة الدقة المحاسبية للفواتير وأشعارات الخصم و ضريبة المبيعات وعادة مايتم عن طريق وضع ختم على الفاتورة يتطلب توقيع المراجع والتاكد من تطبيق الرقابة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8001000" y="3276720"/>
            <a:ext cx="838080" cy="31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04920" y="3962520"/>
            <a:ext cx="746748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راجعة اذون الشحن واذون ارتجاع البضائع للتأكد من مطابقتها مع الفواتير واشعارات الخصم والعكس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8001000" y="4038480"/>
            <a:ext cx="838080" cy="31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04920" y="4724280"/>
            <a:ext cx="746748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تأكد من انه قد تم اجراء تسويات حسابات المراقبة وانه قد تم مراجعتها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04920" y="5410080"/>
            <a:ext cx="746748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تاكد من تطبيق الرقابة على اجماليات كل مجموعة وذلك بالبحث عن التوقيعات وتتبع المجموعات من المدخلات الى المخرجات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8001000" y="4800600"/>
            <a:ext cx="838080" cy="31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8001000" y="5562720"/>
            <a:ext cx="838080" cy="31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اجراءات التحقق من  المبيعات والعملاء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2" name="Boatblueoverlay" descr=""/>
          <p:cNvPicPr/>
          <p:nvPr/>
        </p:nvPicPr>
        <p:blipFill>
          <a:blip r:embed="rId1"/>
          <a:stretch/>
        </p:blipFill>
        <p:spPr>
          <a:xfrm>
            <a:off x="0" y="0"/>
            <a:ext cx="1371600" cy="11430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7238880" y="650700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-44280" y="2789280"/>
            <a:ext cx="1800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-44280" y="758988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7924680" y="5867280"/>
            <a:ext cx="83844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أكتمال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324480" y="1371600"/>
            <a:ext cx="22860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سجلات المحاسبي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324480" y="1905120"/>
            <a:ext cx="2362320" cy="287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راجعة الدقة الحسابية لدفتر يومية المبيعات ودفتر مرتجعات المبيعات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راجعة ترحيل كل فاتورة الى الأستاذ العام وحساب المراقب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راجعة قيود اليومية فى دفتر يومية المبيعات ودفتر مرتجعات المبيعات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553080" y="5867280"/>
            <a:ext cx="12193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وجود/الحدوث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410080" y="5867280"/>
            <a:ext cx="83844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دق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267080" y="5867280"/>
            <a:ext cx="83844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قط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200400" y="5867280"/>
            <a:ext cx="7621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تقييم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676520" y="5867280"/>
            <a:ext cx="121896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حقوق الألتزامات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52280" y="5867280"/>
            <a:ext cx="129564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عرض والأفصا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429000" y="1371600"/>
            <a:ext cx="243828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واتير المبيعات واشعارات الخصم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429000" y="1905120"/>
            <a:ext cx="2438280" cy="565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حص التسلسل الرقمى للفواتير والسؤال عن الفواتير الغير موجودة وفحص الفواتير الملغا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حص صور فواتير البيع واشعارت الخصم مع دفتر يومية المبيعات وحسابات استاذ العملاء ومراجعة تحليل المبيعات فى دفتر يومية المبيعات واعتماد اشعارات الخصم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قارنة الأسعار المدرجة فى الفواتير مع قائمة الأسعار المعتمدةوحدود الأئتمان للعميل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حص الدقة الحسابية لفواتير واشعارات الخصم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حص اشعارات الخصم خاصة البنود الكبيرة او الغير عادي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1371600"/>
            <a:ext cx="243828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سجلات المخازن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33520" y="1905120"/>
            <a:ext cx="2438280" cy="3928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 u="sng">
                <a:solidFill>
                  <a:srgbClr val="000000"/>
                </a:solidFill>
                <a:uFillTx/>
                <a:latin typeface="Times New Roman"/>
                <a:cs typeface="Times New Roman"/>
              </a:rPr>
              <a:t>سيتم تغطيتها تفصيلا فى القسم الثانى من هذا الفصل والتالى يستحق عرضه هن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طابقة اذون شحن البضاعة وسجلات البضاعة المنصرفة مع صور فواتير المبيعات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تبع حركة البضائع المنصرفة بداية من الفاتورة الى اذون الشحن الى سجلات المخازن والعكس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تبع البضائع المرتجعة من مستندات الرتجاع الى سجلات المخازن واشعارات الخصم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اجراءات التحقق من  المبيعات والعملاء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0" name="Boatblueoverlay" descr=""/>
          <p:cNvPicPr/>
          <p:nvPr/>
        </p:nvPicPr>
        <p:blipFill>
          <a:blip r:embed="rId1"/>
          <a:stretch/>
        </p:blipFill>
        <p:spPr>
          <a:xfrm>
            <a:off x="0" y="0"/>
            <a:ext cx="1371600" cy="114300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/>
          <p:nvPr/>
        </p:nvSpPr>
        <p:spPr>
          <a:xfrm>
            <a:off x="7238880" y="650700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-44280" y="2789280"/>
            <a:ext cx="1800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-44280" y="758988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924680" y="5867280"/>
            <a:ext cx="83844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أكتمال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324480" y="1371600"/>
            <a:ext cx="22860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حسابات المراقب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324480" y="1905120"/>
            <a:ext cx="2362320" cy="179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اختبار تسوية حسابات المراقبة بالرجوع الى اصول المستندات ( مثل فواتير البيع , سجلات المرتجعات, والنقدية) والتأكد من اجراء التسويات المناسب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553080" y="5867280"/>
            <a:ext cx="12193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وجود/الحدوث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410080" y="5867280"/>
            <a:ext cx="83844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دق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267080" y="5867280"/>
            <a:ext cx="83844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قط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200400" y="5867280"/>
            <a:ext cx="7621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تقييم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676520" y="5867280"/>
            <a:ext cx="121896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حقوق الألتزامات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280" y="5867280"/>
            <a:ext cx="129564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عرض والأفصا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429000" y="1371600"/>
            <a:ext cx="243828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أجراءات التحليلي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429000" y="1905120"/>
            <a:ext cx="2438280" cy="4699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تقلب فى مستوى المبيعات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قارنة مستويات المبيعات خلال العام على اساس شهرى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قارنة ذات الفترة من العام الساب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قارنة اخر شهر فى العام مع اول شهر فى العام التالى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قد تشير التقلبات من شهرلأخر الى سوء تبويب المبيعات  بين الأشهر  اوحذف مبيعات اووجود مبيعات ذات قيمة عالي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ى حالة وجودتقلبات غير مبررة يجب اجراء فحص مستندى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33520" y="1371600"/>
            <a:ext cx="243828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أفصاح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33520" y="1905120"/>
            <a:ext cx="243828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اظهار المبيعات طبقا لنوعية النشاط والموقع الجغرافى للأسوا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Blackpearl%20w%5B047%5Dcopy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569880" y="603360"/>
            <a:ext cx="7777080" cy="46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9900"/>
                </a:solidFill>
                <a:latin typeface="PwC_Logo"/>
                <a:cs typeface="PwC_Logo"/>
              </a:rPr>
              <a:t>الفصل</a:t>
            </a:r>
            <a:r>
              <a:rPr b="0" lang="en-GB" sz="24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2400" spc="-1" strike="noStrike">
                <a:solidFill>
                  <a:srgbClr val="ff9900"/>
                </a:solidFill>
                <a:latin typeface="PwC_Logo"/>
                <a:cs typeface="PwC_Logo"/>
              </a:rPr>
              <a:t>الحادى</a:t>
            </a:r>
            <a:r>
              <a:rPr b="0" lang="ar-SA" sz="24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2400" spc="-1" strike="noStrike">
                <a:solidFill>
                  <a:srgbClr val="ff9900"/>
                </a:solidFill>
                <a:latin typeface="PwC_Logo"/>
                <a:cs typeface="PwC_Logo"/>
              </a:rPr>
              <a:t>عش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cs typeface="PwC_Logo"/>
              </a:rPr>
              <a:t>اهداف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cs typeface="PwC_Logo"/>
              </a:rPr>
              <a:t>واجراءات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cs typeface="PwC_Logo"/>
              </a:rPr>
              <a:t>واختبارات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cs typeface="PwC_Logo"/>
              </a:rPr>
              <a:t>الرق</a:t>
            </a:r>
            <a:r>
              <a:rPr b="0" lang="en-GB" sz="3600" spc="-1" strike="noStrike">
                <a:solidFill>
                  <a:srgbClr val="ff9900"/>
                </a:solidFill>
                <a:latin typeface="PwC_Logo"/>
                <a:cs typeface="PwC_Logo"/>
              </a:rPr>
              <a:t>ا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cs typeface="PwC_Logo"/>
              </a:rPr>
              <a:t>بة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cs typeface="PwC_Logo"/>
              </a:rPr>
              <a:t>الداخلي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9900"/>
                </a:solidFill>
                <a:latin typeface="PwC_Logo"/>
                <a:cs typeface="PwC_Logo"/>
              </a:rPr>
              <a:t>و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cs typeface="PwC_Logo"/>
              </a:rPr>
              <a:t>بعض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cs typeface="PwC_Logo"/>
              </a:rPr>
              <a:t>اجراءات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cs typeface="PwC_Logo"/>
              </a:rPr>
              <a:t>التحق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9900"/>
                </a:solidFill>
                <a:latin typeface="PwC_Logo"/>
                <a:cs typeface="PwC_Logo"/>
              </a:rPr>
              <a:t>أحمد</a:t>
            </a:r>
            <a:r>
              <a:rPr b="0" lang="ar-SA" sz="20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2000" spc="-1" strike="noStrike">
                <a:solidFill>
                  <a:srgbClr val="ff9900"/>
                </a:solidFill>
                <a:latin typeface="PwC_Logo"/>
                <a:cs typeface="PwC_Logo"/>
              </a:rPr>
              <a:t>جمال</a:t>
            </a:r>
            <a:r>
              <a:rPr b="0" lang="ar-SA" sz="28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حمدالله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9900"/>
                </a:solidFill>
                <a:latin typeface="PwC_Logo"/>
                <a:cs typeface="PwC_Logo"/>
              </a:rPr>
              <a:t>ز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ميل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جمعية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المحاسبين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والمراجعي</a:t>
            </a:r>
            <a:r>
              <a:rPr b="0" lang="en-GB" sz="1800" spc="-1" strike="noStrike">
                <a:solidFill>
                  <a:srgbClr val="ff9900"/>
                </a:solidFill>
                <a:latin typeface="PwC_Logo"/>
                <a:cs typeface="PwC_Logo"/>
              </a:rPr>
              <a:t>ن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المصري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9900"/>
                </a:solidFill>
                <a:latin typeface="PwC_Logo"/>
                <a:cs typeface="PwC_Logo"/>
              </a:rPr>
              <a:t>م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نصور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وشركاهم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برايس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وترهاوس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كوبر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9900"/>
                </a:solidFill>
                <a:latin typeface="PwC_Logo"/>
                <a:ea typeface="PwC_Logo"/>
              </a:rPr>
              <a:t>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أهداف واجراءات واختبارات الرقابة الداخلية وبعض اجراءات التحقق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Boatblueoverlay" descr=""/>
          <p:cNvPicPr/>
          <p:nvPr/>
        </p:nvPicPr>
        <p:blipFill>
          <a:blip r:embed="rId1"/>
          <a:stretch/>
        </p:blipFill>
        <p:spPr>
          <a:xfrm>
            <a:off x="0" y="0"/>
            <a:ext cx="1371600" cy="11430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7238880" y="650700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476760" y="1295280"/>
            <a:ext cx="229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تناول هذا الفص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018240" y="1600200"/>
            <a:ext cx="3485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هداف الرقابة الداخل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أجراءات الرقابة الداخل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ختبارات الرقابة الداخل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جراءات التحق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أجراءات التحليل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981400" y="3581280"/>
            <a:ext cx="338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للدورات المحاسبية  التال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36920" y="3733920"/>
            <a:ext cx="29368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بيع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شتري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خزو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أجور والمرتب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نقد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أصول طويلة الأج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أهداف واجراءات واختبارات الرقابة الداخلية وبعض اجراءات التحقق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Boatblueoverlay" descr=""/>
          <p:cNvPicPr/>
          <p:nvPr/>
        </p:nvPicPr>
        <p:blipFill>
          <a:blip r:embed="rId1"/>
          <a:stretch/>
        </p:blipFill>
        <p:spPr>
          <a:xfrm>
            <a:off x="0" y="0"/>
            <a:ext cx="1371600" cy="11430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7238880" y="650700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605640" y="1295280"/>
            <a:ext cx="97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هد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2057400"/>
            <a:ext cx="6553440" cy="113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فهم المبادئ العامة للأختبارات فى كل دورة </a:t>
            </a:r>
            <a:r>
              <a:rPr b="0" lang="ar-SA" sz="1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دلا من حفظ قوائم طويلة منها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لماذا نحتاج الى رقابة داخلية على المبيعات والمشتريات ؟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Boatblueoverlay" descr=""/>
          <p:cNvPicPr/>
          <p:nvPr/>
        </p:nvPicPr>
        <p:blipFill>
          <a:blip r:embed="rId1"/>
          <a:stretch/>
        </p:blipFill>
        <p:spPr>
          <a:xfrm>
            <a:off x="0" y="0"/>
            <a:ext cx="1371600" cy="11430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7238880" y="650700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428560" y="1447920"/>
            <a:ext cx="741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لماذا نحتاج الى رقابة داخلية على المبيعات والمشتريات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-437760" y="2057400"/>
            <a:ext cx="1075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سبب المخاطر التى قد تحدث فى حالة عدم وجود مثل هذه الرقابة على سبيل المثا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5562720"/>
            <a:ext cx="762120" cy="1066680"/>
          </a:xfrm>
          <a:custGeom>
            <a:avLst/>
            <a:gdLst>
              <a:gd name="textAreaLeft" fmla="*/ 101880 w 762120"/>
              <a:gd name="textAreaRight" fmla="*/ 660240 w 762120"/>
              <a:gd name="textAreaTop" fmla="*/ 186480 h 1066680"/>
              <a:gd name="textAreaBottom" fmla="*/ 77328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امثلة على مخاطر عدم وجود رقابة على المبيعات؟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Boatblueoverlay" descr=""/>
          <p:cNvPicPr/>
          <p:nvPr/>
        </p:nvPicPr>
        <p:blipFill>
          <a:blip r:embed="rId1"/>
          <a:stretch/>
        </p:blipFill>
        <p:spPr>
          <a:xfrm>
            <a:off x="0" y="0"/>
            <a:ext cx="1371600" cy="11430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7238880" y="650700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772400" y="1371600"/>
            <a:ext cx="106668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عدم ترقيم اوامر البي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781680" y="1600200"/>
            <a:ext cx="838440" cy="304920"/>
          </a:xfrm>
          <a:prstGeom prst="leftArrow">
            <a:avLst>
              <a:gd name="adj1" fmla="val 50000"/>
              <a:gd name="adj2" fmla="val 68743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648680" y="1295280"/>
            <a:ext cx="2285280" cy="82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قدانها وعدم تنفيذها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وتكرار تنفيذها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-768600" y="1295280"/>
            <a:ext cx="5317200" cy="82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عدم رضاء العميل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ضياع فرصة تحقيق ايراد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عدم سداد قيمة المشتريات التى تكرر استلامهم لها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86200" y="1600200"/>
            <a:ext cx="838080" cy="304920"/>
          </a:xfrm>
          <a:prstGeom prst="leftArrow">
            <a:avLst>
              <a:gd name="adj1" fmla="val 50000"/>
              <a:gd name="adj2" fmla="val 68713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772400" y="2514600"/>
            <a:ext cx="1066680" cy="1554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عدم مطابقة اذون الشحن مع الفواتير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781680" y="2819520"/>
            <a:ext cx="838440" cy="304560"/>
          </a:xfrm>
          <a:prstGeom prst="leftArrow">
            <a:avLst>
              <a:gd name="adj1" fmla="val 50000"/>
              <a:gd name="adj2" fmla="val 68824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271040" y="2514600"/>
            <a:ext cx="286920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قد لا نستطيع ارسال فواتير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ى العملاء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724280" y="3124080"/>
            <a:ext cx="1962360" cy="82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حرير فواتير بضائع لم يستلمها العميل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6320" y="2577960"/>
            <a:ext cx="365760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عدم رضاء العميل نتيجة ارسال فواتير خاطئة وتحمل تكاليف ادارية لاداعى لها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عدم تحصيل قيم البضاعة اوالخدمة نتيجة عدم اصدار فاتور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809880" y="2971800"/>
            <a:ext cx="838440" cy="304920"/>
          </a:xfrm>
          <a:prstGeom prst="leftArrow">
            <a:avLst>
              <a:gd name="adj1" fmla="val 50000"/>
              <a:gd name="adj2" fmla="val 68743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20120" y="3962520"/>
            <a:ext cx="1295280" cy="106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عدم تجميع الفواتير ومراجعتها حسابيا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705720" y="4267080"/>
            <a:ext cx="838080" cy="304920"/>
          </a:xfrm>
          <a:prstGeom prst="leftArrow">
            <a:avLst>
              <a:gd name="adj1" fmla="val 50000"/>
              <a:gd name="adj2" fmla="val 68713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800600" y="4114800"/>
            <a:ext cx="1886040" cy="82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قدان الفواتير اوتسجيلها بقيمتها الخاطئة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6320" y="4114800"/>
            <a:ext cx="365760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وجود ارصدة دائنة للعملاء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علومات المالية غير صحيح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886200" y="4267080"/>
            <a:ext cx="838080" cy="304920"/>
          </a:xfrm>
          <a:prstGeom prst="leftArrow">
            <a:avLst>
              <a:gd name="adj1" fmla="val 50000"/>
              <a:gd name="adj2" fmla="val 68713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620120" y="5334120"/>
            <a:ext cx="1295280" cy="1554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عدم الأحتفاظ بدفتر استاذ مساعد للعملاء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705720" y="5638680"/>
            <a:ext cx="838080" cy="304920"/>
          </a:xfrm>
          <a:prstGeom prst="leftArrow">
            <a:avLst>
              <a:gd name="adj1" fmla="val 50000"/>
              <a:gd name="adj2" fmla="val 68713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743360" y="5337000"/>
            <a:ext cx="1886040" cy="106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ظهور اجمالى المديونية دون تحديد رصيد كل عميل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6320" y="5410080"/>
            <a:ext cx="3657600" cy="106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صعوبة تتبع الأرصدة التى مضى تاريخ استحقاقها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صعوبة المطابقة مع العميل فى حالة عدم الأتفا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809880" y="5562720"/>
            <a:ext cx="838440" cy="304560"/>
          </a:xfrm>
          <a:prstGeom prst="leftArrow">
            <a:avLst>
              <a:gd name="adj1" fmla="val 50000"/>
              <a:gd name="adj2" fmla="val 68824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أهداف الرقابة الداخلية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Boatblueoverlay" descr=""/>
          <p:cNvPicPr/>
          <p:nvPr/>
        </p:nvPicPr>
        <p:blipFill>
          <a:blip r:embed="rId1"/>
          <a:stretch/>
        </p:blipFill>
        <p:spPr>
          <a:xfrm>
            <a:off x="0" y="0"/>
            <a:ext cx="1371600" cy="114300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7238880" y="650700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752480" y="1905120"/>
            <a:ext cx="5929560" cy="4483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ن جميع المعاملات المعتمدة قد تم تسجيلها فى الوقت الصحيح وبالقيم الصحيحة فى الحسابات الصحيحة وفى الفترة المحاسبية الخاصة به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ن من له حق التعامل مع الأصول هو الذى يقوم بذل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نه قد تم مقارنة ماتم تسجيله بالدفاتر مع الموجود فعل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4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اوجه التشابه بين الأجراءات الرقابية على المبيعات والمشتريات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Boatblueoverlay" descr=""/>
          <p:cNvPicPr/>
          <p:nvPr/>
        </p:nvPicPr>
        <p:blipFill>
          <a:blip r:embed="rId1"/>
          <a:stretch/>
        </p:blipFill>
        <p:spPr>
          <a:xfrm>
            <a:off x="0" y="0"/>
            <a:ext cx="1371600" cy="114300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7238880" y="650700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520" y="1752480"/>
            <a:ext cx="8305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ستندات مسلسلة مع مرجعة لاحقة للتسلسل لضمان الأكتما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33520" y="2590920"/>
            <a:ext cx="830556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ستخدام المجموعات واجماليات رقابية اخرى فى مرحلة الأدخال مع مراجعة لاحقة للمخرجات للتأكد من الأكتمال والد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33520" y="3581280"/>
            <a:ext cx="830556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ستخدام حسابات المراقبة والتاكد من مطابقتها مع دفتر الأستاذ العام والأستاذ المساعد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33520" y="4530600"/>
            <a:ext cx="830556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جود سلطات اعتماد مناسبة عن طريق توقيع الأشخاص المسئولين لانشاء وادخال وتوزيع المستندات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85800" y="5181480"/>
            <a:ext cx="8093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0520" indent="-29052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000000"/>
                </a:solidFill>
                <a:uFillTx/>
                <a:latin typeface="Times New Roman"/>
                <a:cs typeface="Times New Roman"/>
              </a:rPr>
              <a:t>تشمل اختبارات الرقابة الحصول على ادلة أن الأجراءات السابق الأشارة اليها قد تم تطبيقها وفى العادة يبحث المراجع عن دليل يوضح ان اجراء الرقابة قد تم تنفيذه مثل التوقي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المخاطر الرئيسية المتعلقة بدورتى  المبيعات والمشتريات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Boatblueoverlay" descr=""/>
          <p:cNvPicPr/>
          <p:nvPr/>
        </p:nvPicPr>
        <p:blipFill>
          <a:blip r:embed="rId1"/>
          <a:stretch/>
        </p:blipFill>
        <p:spPr>
          <a:xfrm>
            <a:off x="0" y="0"/>
            <a:ext cx="1371600" cy="114300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7238880" y="650700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33520" y="1752480"/>
            <a:ext cx="8305560" cy="100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شل دورة المبيعات ودورة المشتريات فى تحقيق اهداف المنشأة والتى قد ينتج عنها خسائر مالية  أو تاثير سلبى على سمعة المنشأ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33520" y="2590920"/>
            <a:ext cx="830556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شراء بضائع غالية الثمن اوغير مناسبة مما يؤدى الى الأنحراف عن الموازنة التقديرية و تحقيق خسائر 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581280"/>
            <a:ext cx="830556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أخفاق فى شراء بضائع او خدمات فى الوقت المناسب والذى قد يؤدى الى عدم الأنتهاء فى المواعيد المطلوب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33520" y="4530600"/>
            <a:ext cx="830556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حدوث مشتريات اوعمليات بيع غير سليمة مما قد يؤدى الى خسائر مالية أو حدوث تأثير سلبى على سمعة المنشأ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2T16:06:08Z</dcterms:created>
  <dc:creator>agamal</dc:creator>
  <dc:description/>
  <dc:language>en-US</dc:language>
  <cp:lastModifiedBy>agamal</cp:lastModifiedBy>
  <dcterms:modified xsi:type="dcterms:W3CDTF">2003-05-02T23:10:34Z</dcterms:modified>
  <cp:revision>8</cp:revision>
  <dc:subject/>
  <dc:title>أهداف واجراءات واختبارات الرقابة الداخلية وبعض اجراءات التحقق</dc:title>
</cp:coreProperties>
</file>